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D3B8-2232-4232-B33F-5D2E3068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02F1-2175-47F0-BC03-536D5F61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7610-66CD-4475-9B7A-39EAFEAA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C839-3AE6-4D21-8A1C-AD343372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1ED0-72DD-47A7-8FA7-6D7AA700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6670-7DE4-42BD-8EB1-A9934DE4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DA80-8078-4FE8-8E5B-17382E89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05B4-A3F4-4FA7-997B-D1D4C197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B309-3590-4CEF-BB91-42454256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7096-2A3D-4CE7-9440-AAE5D796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4DE1-708F-4B90-9A11-E80F7D50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84BD-F9A4-4529-95FA-F3A41B88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EC02-530B-428A-9678-E5BFEF4DC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533520"/>
            <a:ext cx="5715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JazzText"/>
              </a:rPr>
              <a:t>Cat n' Mouse Gam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JazzText"/>
              <a:ea typeface="JazzText"/>
            </a:endParaRPr>
          </a:p>
        </p:txBody>
      </p:sp>
    </p:spTree>
  </p:cSld>
  <p:transition spd="slow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>
            <a:hlinkClick r:id="rId1" action="ppaction://hlinksldjump"/>
          </p:cNvPr>
          <p:cNvSpPr/>
          <p:nvPr/>
        </p:nvSpPr>
        <p:spPr>
          <a:xfrm rot="798600">
            <a:off x="4343040" y="533160"/>
            <a:ext cx="1447920" cy="2361960"/>
          </a:xfrm>
          <a:prstGeom prst="downArrow">
            <a:avLst>
              <a:gd name="adj1" fmla="val 50000"/>
              <a:gd name="adj2" fmla="val 4078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o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 rot="3477600">
            <a:off x="3809160" y="4343400"/>
            <a:ext cx="1752840" cy="2133720"/>
          </a:xfrm>
          <a:prstGeom prst="upArrow">
            <a:avLst>
              <a:gd name="adj1" fmla="val 47731"/>
              <a:gd name="adj2" fmla="val 31097"/>
            </a:avLst>
          </a:prstGeom>
          <a:gradFill rotWithShape="0">
            <a:gsLst>
              <a:gs pos="0">
                <a:srgbClr val="ff66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’re done fo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 rot="1007400">
            <a:off x="6400440" y="3276720"/>
            <a:ext cx="2209680" cy="761760"/>
          </a:xfrm>
          <a:prstGeom prst="leftArrow">
            <a:avLst>
              <a:gd name="adj1" fmla="val 52917"/>
              <a:gd name="adj2" fmla="val 18525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ch ou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 flipV="1" rot="1219200">
            <a:off x="380880" y="2361600"/>
            <a:ext cx="2286000" cy="1728720"/>
          </a:xfrm>
          <a:prstGeom prst="rightArrow">
            <a:avLst>
              <a:gd name="adj1" fmla="val 21167"/>
              <a:gd name="adj2" fmla="val 596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6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83 0.0111 L -0.27083 0.0111 E">
                                      <p:cBhvr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8 0.00925 C -0.02361 -0.0118 -0.07466 -0.01411 -0.07865 0.00092 C -0.08212 0.01456 -0.03959 0.04578 0.021 0.07352 C 0.08142 0.1015 0.13507 0.11468 0.13871 0.10081 C 0.14253 0.08578 0.09062 0.0578 0.0276 0.04 C -0.0349 0.02381 -0.0842 0.02242 -0.08768 0.03607 C -0.09132 0.05017 -0.04809 0.08277 0.01146 0.11005 C 0.07187 0.1378 0.12586 0.15005 0.12951 0.13595 C 0.13316 0.12231 0.08125 0.09433 0.01909 0.07699 C -0.0441 0.05919 -0.09323 0.05757 -0.09688 0.07144 C -0.10087 0.08647 -0.05747 0.1193 0.00295 0.14705 C 0.0625 0.17433 0.11649 0.18659 0.12031 0.17156 C 0.12361 0.15884 0.0717 0.13063 0.00989 0.11214 C -0.05226 0.09479 -0.10278 0.09387 -0.10643 0.10797 C -0.1099 0.12185 -0.06563 0.15491 -0.00625 0.18219 C 0.05521 0.2104 0.10729 0.22173 0.11093 0.20786 C 0.11441 0.19399 0.06354 0.16647 0.00139 0.14913 C -0.06077 0.13156 -0.11198 0.12948 -0.11545 0.14312 C -0.11945 0.15815 -0.07483 0.19005 -0.01441 0.2178 C 0.04618 0.24578 0.09809 0.25688 0.10173 0.24323 C 0.10538 0.22936 0.05451 0.20162 -0.00764 0.18427 C -0.06997 0.16716 -0.12136 0.16578 -0.12466 0.17826 C -0.1283 0.19237 -0.08316 0.22566 -0.02344 0.25294 C 0.03698 0.28092 0.08906 0.29225 0.09253 0.27838 C 0.09583 0.26589 0.04583 0.23838 -0.01684 0.21965 C -0.079 0.20231 -0.13056 0.20115 -0.13403 0.21479 C -0.13733 0.22751 -0.09254 0.26219 -0.03195 0.28994 C 0.02847 0.31792 0.07951 0.32878 0.08316 0.31491 C 0.08663 0.30104 0.03663 0.27375 -0.02552 0.25641 C -0.0875 0.2393 -0.14063 0.23583 -0.14323 0.25017 C -0.14601 0.26427 -0.10139 0.29618 -0.0408 0.32393 C 0.01961 0.3519 0.07066 0.36277 0.0743 0.3489 C 0.0776 0.33618 0.02951 0.30982 -0.03299 0.29387 E">
                                      <p:cBhvr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777 0.05271 0.08402 0.04901 0.12552 0.05063 C 0.13645 0.05549 0.14791 0.05849 0.15885 0.06335 C 0.16302 0.0652 0.17152 0.06751 0.17152 0.06751 C 0.17621 0.07167 0.18645 0.07838 0.19062 0.08439 C 0.19618 0.09225 0.20347 0.09988 0.21111 0.10358 C 0.2177 0.1119 0.22482 0.10612 0.23177 0.10127 C 0.23506 0.09502 0.23663 0.08878 0.23975 0.08231 C 0.23923 0.07953 0.23715 0.07144 0.23819 0.07398 C 0.23958 0.07791 0.23906 0.08323 0.24131 0.08647 C 0.24895 0.09711 0.25555 0.10797 0.26354 0.11838 C 0.26875 0.12508 0.27447 0.13063 0.27951 0.13734 C 0.28003 0.13942 0.28003 0.14173 0.28107 0.14358 C 0.28263 0.14659 0.28906 0.15445 0.29218 0.15838 C 0.29513 0.16208 0.29704 0.16716 0.3 0.17109 C 0.30243 0.18011 0.30572 0.18705 0.30798 0.19653 C 0.3085 0.19861 0.30954 0.20277 0.30954 0.20277 C 0.30902 0.22612 0.30885 0.24924 0.30798 0.2726 C 0.30781 0.27907 0.30572 0.30312 0.30173 0.30843 C 0.29618 0.31583 0.29184 0.323 0.28576 0.32971 C 0.27777 0.33849 0.28489 0.33433 0.27621 0.33803 C 0.26736 0.35052 0.21875 0.34659 0.21753 0.34659 C 0.19496 0.35398 0.16388 0.35121 0.14444 0.32971 C 0.13142 0.31514 0.14756 0.33017 0.13506 0.31907 C 0.12812 0.30589 0.10989 0.28809 0.09843 0.28323 C 0.09444 0.27768 0.09131 0.27491 0.08576 0.2726 C 0.07916 0.26659 0.06805 0.26034 0.06041 0.2578 C 0.04652 0.24601 0.02986 0.24578 0.01441 0.23884 C 0.00816 0.23052 -0.00695 0.22797 -0.0158 0.22404 C -0.02796 0.21872 -0.01268 0.22543 -0.02535 0.21965 C -0.02691 0.21896 -0.03004 0.21757 -0.03004 0.21757 C -0.03559 0.2104 -0.04497 0.20624 -0.05226 0.20277 C -0.05539 0.20115 -0.06181 0.19861 -0.06181 0.19861 C -0.07882 0.20069 -0.07934 0.19768 -0.08716 0.21341 C -0.08872 0.22358 -0.09028 0.23167 -0.09358 0.24092 C -0.09931 0.28 -0.09671 0.26173 -0.09514 0.33595 C -0.09566 0.34728 -0.09532 0.35884 -0.09671 0.36994 C -0.09705 0.37248 -0.09931 0.37387 -0.1 0.37618 C -0.10087 0.37896 -0.10018 0.38265 -0.10157 0.38474 C -0.11684 0.40763 -0.14237 0.40832 -0.16337 0.40994 C -0.16875 0.41225 -0.17396 0.4141 -0.17934 0.41641 C -0.18125 0.41803 -0.19393 0.43167 -0.19671 0.43329 C -0.19983 0.43514 -0.20625 0.43745 -0.20625 0.43745 C -0.21164 0.43676 -0.21702 0.43699 -0.22223 0.43537 C -0.22414 0.43491 -0.22518 0.43213 -0.22691 0.43121 C -0.23507 0.42635 -0.24358 0.42127 -0.25226 0.41849 C -0.28264 0.42057 -0.28629 0.4141 -0.30157 0.44393 C -0.30209 0.44601 -0.30244 0.44832 -0.30313 0.45017 C -0.304 0.45248 -0.30556 0.4541 -0.30625 0.45641 C -0.3125 0.47976 -0.30487 0.46774 -0.31424 0.47976 C -0.31598 0.49156 -0.32014 0.50173 -0.32223 0.51352 C -0.32709 0.5415 -0.3224 0.5267 -0.32848 0.54312 C -0.33178 0.56578 -0.33907 0.58566 -0.34914 0.60439 C -0.3566 0.61826 -0.3474 0.60878 -0.35712 0.61711 C -0.36077 0.62474 -0.36337 0.62705 -0.3698 0.62982 C -0.40886 0.62843 -0.42205 0.64485 -0.43959 0.61294 C -0.44167 0.60462 -0.44306 0.59745 -0.44601 0.58959 C -0.44931 0.56763 -0.45539 0.54635 -0.45869 0.52416 C -0.46216 0.50034 -0.46407 0.47606 -0.46823 0.45225 C -0.47396 0.36971 -0.46945 0.28878 -0.46181 0.20716 C -0.45938 0.1482 -0.45712 0.09017 -0.45226 0.03167 C -0.44862 -0.01272 -0.4349 -0.05388 -0.42379 -0.09526 C -0.42032 -0.10798 -0.41962 -0.1207 -0.4158 -0.13318 C -0.41528 -0.13665 -0.41494 -0.14035 -0.41424 -0.14382 C -0.41337 -0.14821 -0.41112 -0.15654 -0.41112 -0.15654 C -0.41059 -0.16139 -0.41164 -0.1674 -0.40938 -0.17133 C -0.40816 -0.17341 -0.40712 -0.16717 -0.40625 -0.16509 C -0.40313 -0.15769 -0.40122 -0.15191 -0.39671 -0.1459 C -0.39445 -0.13665 -0.39237 -0.12763 -0.39046 -0.11839 C -0.38924 -0.11284 -0.38716 -0.10151 -0.38716 -0.10151 C -0.38473 -0.07099 -0.38125 -0.03931 -0.37292 -0.01064 C -0.36598 0.01341 -0.35816 0.03676 -0.35226 0.06127 C -0.35174 0.07052 -0.3573 0.08601 -0.3507 0.08878 C -0.34428 0.09156 -0.34237 0.07445 -0.33803 0.06751 C -0.32119 0.03976 -0.33855 0.07144 -0.32379 0.03791 C -0.31233 0.01179 -0.30296 -0.00972 -0.29358 -0.03815 C -0.29132 -0.04509 -0.28681 -0.05041 -0.28403 -0.05711 C -0.26928 -0.09295 -0.28577 -0.05966 -0.27292 -0.09526 C -0.26719 -0.11122 -0.25539 -0.14313 -0.24757 -0.15862 C -0.24705 -0.1607 -0.2448 -0.16347 -0.24601 -0.16509 C -0.24723 -0.16671 -0.24914 -0.1637 -0.2507 -0.16278 C -0.25348 -0.16093 -0.25591 -0.15839 -0.25869 -0.15654 C -0.26962 -0.14937 -0.28021 -0.1422 -0.29202 -0.13758 C -0.32726 -0.12394 -0.36841 -0.12324 -0.40469 -0.1207 C -0.43386 -0.11538 -0.42049 -0.11723 -0.44445 -0.11422 C -0.46528 -0.10729 -0.45278 -0.11052 -0.48247 -0.10798 C -0.48403 -0.10729 -0.48716 -0.10798 -0.48716 -0.1059 C -0.48716 -0.10081 -0.47327 -0.09341 -0.47292 -0.09318 C -0.45174 -0.06498 -0.42518 -0.0511 -0.39827 -0.03607 C -0.38994 -0.03145 -0.38004 -0.03145 -0.37136 -0.02752 C -0.3698 -0.02821 -0.36667 -0.0296 -0.36667 -0.0296 L 0.05555 -0.09735 L -0.27448 0.08439 E">
                                      <p:cBhvr>
                                        <p:cTn id="24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417 -0.0185 C -0.40816 -0.10775 -0.35816 -0.18497 -0.29115 -0.19029 C -0.22709 -0.197 -0.16719 -0.13711 -0.1632 -0.05041 C -0.15816 0.02936 -0.20018 0.10405 -0.26025 0.10936 C -0.31511 0.11329 -0.36719 0.06405 -0.37118 -0.01041 C -0.37518 -0.07838 -0.34011 -0.14243 -0.28924 -0.14775 C -0.24219 -0.15168 -0.19809 -0.11029 -0.19514 -0.04786 C -0.19219 0.00809 -0.22014 0.06266 -0.26216 0.06543 C -0.30018 0.06936 -0.33611 0.03746 -0.33924 -0.01318 C -0.34115 -0.0585 -0.32014 -0.10243 -0.28716 -0.10497 C -0.25816 -0.10775 -0.22917 -0.0837 -0.22709 -0.04509 C -0.22518 -0.01179 -0.24011 0.02011 -0.26424 0.02289 C -0.2842 0.02543 -0.30521 0.01087 -0.30625 -0.01572 C -0.30816 -0.03723 -0.30018 -0.05989 -0.28525 -0.06243 C -0.27309 -0.06243 -0.26111 -0.05711 -0.2592 -0.04254 C -0.25816 -0.03306 -0.26025 -0.02382 -0.26615 -0.01989 C -0.2691 -0.0185 -0.27118 -0.0185 -0.27414 -0.01989 E">
                                      <p:cBhvr>
                                        <p:cTn id="28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47 -0.01388 0.0099 -0.02705 0.02066 -0.03168 C 0.03281 -0.04231 0.02674 -0.03838 0.03976 -0.0444 C 0.04132 -0.04509 0.04445 -0.04648 0.04445 -0.04648 C 0.04965 -0.04578 0.05504 -0.04555 0.06024 -0.0444 C 0.06615 -0.04324 0.06979 -0.03653 0.07465 -0.03376 C 0.07708 -0.03237 0.07986 -0.03237 0.08247 -0.03168 C 0.08958 -0.0252 0.0967 -0.02451 0.10469 -0.02104 C 0.12031 -0.02243 0.13247 -0.02474 0.14757 -0.02729 C 0.15712 -0.03376 0.15156 -0.03052 0.16354 -0.03584 C 0.16511 -0.03653 0.16823 -0.03792 0.16823 -0.03792 C 0.17379 -0.04532 0.17882 -0.0474 0.18577 -0.05272 C 0.19132 -0.06428 0.20295 -0.0696 0.21267 -0.07399 C 0.2158 -0.07538 0.2191 -0.07677 0.22222 -0.07815 C 0.22379 -0.07885 0.22691 -0.08023 0.22691 -0.08023 C 0.22952 -0.07954 0.23247 -0.08 0.2349 -0.07815 C 0.23559 -0.07769 0.24375 -0.05804 0.24445 -0.05688 C 0.24688 -0.04717 0.25156 -0.03931 0.25399 -0.0296 C 0.25452 -0.00601 0.24306 0.04462 0.26667 0.05503 C 0.2717 0.05271 0.27431 0.04901 0.27934 0.0467 C 0.28038 0.04532 0.28125 0.04347 0.28247 0.04231 C 0.28403 0.04069 0.28594 0.04 0.28733 0.03815 C 0.29219 0.03167 0.29774 0.02266 0.30156 0.0148 C 0.30434 -0.000229999999999999 0.3059 -0.01388 0.31267 -0.02729 C 0.31476 -0.03145 0.31702 -0.03584 0.3191 -0.04 C 0.3217 -0.04532 0.32535 -0.05688 0.32535 -0.05688 C 0.32743 -0.06844 0.33247 -0.08463 0.34132 -0.08879 C 0.34583 -0.07954 0.34583 -0.07445 0.34757 -0.06336 C 0.35017 -0.04694 0.35382 -0.03168 0.35556 -0.0148 C 0.35434 0.00647 0.35712 0.01133 0.34757 0.02335 C 0.34184 0.0393 0.33594 0.05757 0.32222 0.06358 C 0.31754 0.05919 0.31493 0.05526 0.30955 0.05295 C 0.30365 0.04254 0.29844 0.03121 0.29202 0.02127 C 0.28663 0.01295 0.27952 0.00878 0.27465 0 C 0.26111 -0.02428 0.2349 -0.07399 0.2349 -0.07399 C 0.23264 -0.08278 0.22552 -0.09734 0.2191 -0.10127 C 0.21597 -0.10312 0.20955 -0.10567 0.20955 -0.10567 C 0.20156 -0.10428 0.1934 -0.10405 0.18577 -0.10127 C 0.17761 -0.09827 0.16858 -0.06636 0.16511 -0.05688 C 0.16267 -0.02705 0.16198 -0.02867 0.16511 0.01271 C 0.1658 0.0215 0.1691 0.02636 0.17136 0.03399 C 0.17622 0.04994 0.18108 0.06659 0.18889 0.08046 C 0.19705 0.09503 0.20972 0.10913 0.21424 0.12693 C 0.2132 0.14081 0.21389 0.15468 0.20642 0.16508 C 0.20573 0.16809 0.20295 0.18682 0.20156 0.18821 C 0.19983 0.19006 0.1974 0.18959 0.19531 0.19029 C 0.1908 0.1963 0.18767 0.20138 0.18577 0.20948 C 0.1882 0.3274 0.18195 0.25873 0.19202 0.30034 C 0.18733 0.31907 0.17413 0.32832 0.16024 0.33202 C 0.15608 0.33133 0.15156 0.33179 0.14757 0.32994 C 0.14392 0.32832 0.13802 0.32138 0.13802 0.32138 C 0.13247 0.31029 0.12674 0.30705 0.11754 0.30451 C 0.10122 0.28393 0.08733 0.26034 0.07136 0.23907 C 0.06163 0.22612 0.05313 0.2111 0.03976 0.20508 C 0.03177 0.20578 0.02361 0.20485 0.0158 0.20716 C 0.01354 0.20786 0.01285 0.21179 0.01111 0.21364 C 0.00538 0.22011 0.00156 0.22497 -0.00312 0.2326 C -0.00608 0.23745 -0.01285 0.24254 -0.0158 0.24532 C -0.02205 0.25086 -0.02691 0.26196 -0.03021 0.27075 C -0.03212 0.27584 -0.03455 0.28046 -0.03646 0.28555 C -0.0401 0.29549 -0.03993 0.30474 -0.04601 0.31306 C -0.05469 0.34797 -0.08542 0.38196 -0.11111 0.39329 C -0.12014 0.3926 -0.12917 0.39306 -0.13802 0.39121 C -0.13958 0.39098 -0.1401 0.38821 -0.14132 0.38705 C -0.15052 0.37873 -0.16163 0.36277 -0.17135 0.35953 C -0.18715 0.33849 -0.16406 0.36855 -0.18246 0.34682 C -0.1934 0.33387 -0.18611 0.33803 -0.19531 0.3341 C -0.19913 0.32532 -0.20382 0.31907 -0.20798 0.31075 C -0.21198 0.29456 -0.20608 0.31422 -0.21423 0.30034 C -0.21528 0.29849 -0.2151 0.29595 -0.2158 0.29387 C -0.21875 0.28485 -0.21875 0.28601 -0.22378 0.27907 C -0.22708 0.26589 -0.23524 0.25456 -0.24132 0.24323 C -0.24479 0.23676 -0.25243 0.22427 -0.25243 0.22427 C -0.25382 0.21503 -0.25694 0.20115 -0.26198 0.19468 C -0.26562 0.18011 -0.26285 0.1852 -0.26823 0.17757 C -0.27257 0.16 -0.27882 0.13526 -0.29045 0.12485 C -0.29149 0.12277 -0.29236 0.12046 -0.29358 0.11838 C -0.29496 0.11607 -0.29705 0.11445 -0.29844 0.11214 C -0.30937 0.09295 -0.29826 0.10774 -0.30642 0.09734 C -0.30816 0.0904 -0.31423 0.07838 -0.31423 0.07838 C -0.31562 0.06844 -0.31875 0.06058 -0.32066 0.05086 C -0.32222 0.03399 -0.32396 0.02451 -0.32864 0.00855 C -0.32969 0.00508 -0.33177 -0.00208 -0.33177 -0.00208 C -0.33194 -0.0037 -0.3342 -0.02266 -0.33489 -0.0252 C -0.33559 -0.02752 -0.33715 -0.02937 -0.33802 -0.03168 C -0.33871 -0.03376 -0.33923 -0.03584 -0.33976 -0.03792 C -0.34167 -0.04555 -0.34271 -0.05226 -0.34601 -0.05919 C -0.34948 -0.06659 -0.3526 -0.0733 -0.35868 -0.07607 C -0.36423 -0.08301 -0.36875 -0.08463 -0.37621 -0.08648 C -0.38264 -0.09249 -0.38941 -0.09388 -0.39687 -0.09711 C -0.39844 -0.09781 -0.40156 -0.09919 -0.40156 -0.09919 C -0.44705 -0.09596 -0.41979 -0.1022 -0.44288 -0.08648 C -0.44983 -0.07399 -0.45851 -0.06359 -0.46667 -0.05272 C -0.47604 -0.04023 -0.49896 0.01063 -0.50156 0.02335 C -0.50816 0.05526 -0.51389 0.08786 -0.51753 0.12069 C -0.52083 0.15029 -0.52292 0.17664 -0.53021 0.20508 C -0.53281 0.24716 -0.53281 0.23098 -0.52864 0.29179 C -0.52795 0.30196 -0.52222 0.32138 -0.52222 0.32138 C -0.51875 0.35029 -0.50851 0.37618 -0.50156 0.40393 C -0.49844 0.41664 -0.49618 0.41179 -0.49201 0.42289 C -0.4816 0.45063 -0.4908 0.43722 -0.48246 0.44832 C -0.48368 0.47514 -0.48663 0.52092 -0.48246 0.54543 C -0.4816 0.55029 -0.47621 0.55121 -0.47309 0.55399 C -0.46996 0.55676 -0.46875 0.563 -0.4651 0.56462 C -0.46042 0.5667 -0.45555 0.56878 -0.45087 0.57086 C -0.4493 0.57156 -0.44601 0.57295 -0.44601 0.57295 C -0.39305 0.57225 -0.3401 0.57364 -0.28733 0.57086 C -0.28507 0.57086 -0.28437 0.56624 -0.28246 0.56462 C -0.28108 0.56347 -0.27934 0.563 -0.27778 0.56231 C -0.27205 0.55468 -0.26962 0.54636 -0.2651 0.53711 C -0.26024 0.52716 -0.25417 0.52092 -0.24757 0.51375 C -0.23958 0.50497 -0.2467 0.50913 -0.23802 0.50543 C -0.23351 0.49919 -0.23177 0.49341 -0.22535 0.49063 C -0.22101 0.48462 -0.21701 0.48046 -0.21111 0.47792 C -0.20625 0.47098 -0.20226 0.46751 -0.19531 0.4652 C -0.1908 0.45965 -0.18628 0.4578 -0.1809 0.45456 C -0.17257 0.44971 -0.16701 0.44532 -0.15868 0.44185 C -0.15191 0.43514 -0.14601 0.43237 -0.13802 0.42913 C -0.13489 0.42774 -0.13177 0.42636 -0.12864 0.42497 C -0.12708 0.42427 -0.12378 0.42289 -0.12378 0.42289 C -0.10417 0.42427 -0.08698 0.42474 -0.06823 0.43144 C -0.06667 0.43283 -0.06528 0.43445 -0.06354 0.4356 C -0.06198 0.43653 -0.06024 0.43653 -0.05868 0.43769 C -0.04531 0.4474 -0.03368 0.45873 -0.0191 0.4652 C -0.01337 0.47237 -0.00746 0.47422 0 0.47792 C 0.01823 0.4867 0.03629 0.49572 0.05556 0.49896 C 0.09896 0.51815 0.16024 0.49849 0.20799 0.49063 C 0.24722 0.49225 0.27813 0.49526 0.31754 0.49688 C 0.31702 0.51445 0.32014 0.53318 0.3158 0.54982 C 0.31441 0.55514 0.30729 0.55098 0.30313 0.5519 C 0.29774 0.55306 0.29271 0.55584 0.28733 0.55607 C 0.26198 0.55676 0.23646 0.55745 0.21111 0.55815 C 0.17483 0.56994 0.18767 0.56485 0.1191 0.5667 C 0.11806 0.56809 0.11632 0.56901 0.1158 0.57086 C 0.10625 0.60231 0.12674 0.58682 0.07934 0.58982 C 0.0408 0.60693 0.08073 0.58982 -0.03177 0.59422 C -0.04097 0.59468 -0.05104 0.60046 -0.06024 0.60254 C -0.0868 0.6252 -0.12274 0.62451 -0.15243 0.62797 C -0.16024 0.63491 -0.16458 0.63075 -0.17309 0.62797 C -0.18333 0.62104 -0.19427 0.61734 -0.20469 0.6111 C -0.21163 0.60693 -0.21632 0.60092 -0.22378 0.59838 C -0.23177 0.58451 -0.24271 0.5741 -0.25087 0.56023 C -0.25903 0.54636 -0.26476 0.52994 -0.26979 0.51375 C -0.27274 0.50451 -0.27639 0.49549 -0.27934 0.48624 C -0.28663 0.46219 -0.28871 0.4356 -0.29045 0.41017 C -0.28941 0.37017 -0.28958 0.34913 -0.28246 0.31514 C -0.28038 0.29063 -0.28038 0.28092 -0.26198 0.27283 C -0.24219 0.27607 -0.23993 0.2793 -0.22691 0.29826 C -0.2184 0.31075 -0.20781 0.32347 -0.20156 0.33826 C -0.19132 0.36231 -0.18559 0.38936 -0.17621 0.41433 C -0.17361 0.43237 -0.16788 0.44971 -0.16354 0.46728 C -0.15677 0.4948 -0.15364 0.53248 -0.12864 0.53919 C -0.12014 0.5378 -0.11146 0.53803 -0.10312 0.53503 C -0.10087 0.53433 -0.10017 0.5304 -0.09844 0.52855 C -0.09062 0.52069 -0.08316 0.51214 -0.07465 0.50543 C -0.07014 0.49595 -0.06458 0.4874 -0.06024 0.47792 C -0.05382 0.46404 -0.05104 0.44878 -0.04757 0.43352 C -0.04896 0.38774 -0.04358 0.39699 -0.05399 0.37225 C -0.05642 0.36647 -0.05798 0.3593 -0.06198 0.35514 C -0.06337 0.35352 -0.0684 0.35167 -0.06667 0.35098 C -0.06354 0.34959 -0.06024 0.35237 -0.05712 0.35306 C -0.0493 0.36393 -0.04427 0.37688 -0.03802 0.38913 C -0.0368 0.39977 -0.03298 0.4215 -0.02691 0.42913 C -0.01875 0.42728 -0.01267 0.42335 -0.00469 0.42081 C 0.00087 0.41711 0.00608 0.41456 0.01111 0.41017 C 0.01163 0.4074 0.01163 0.40439 0.01267 0.40185 C 0.01441 0.39722 0.0191 0.38913 0.0191 0.38913 C 0.02552 0.363 0.02205 0.38081 0.02379 0.3341 C 0.02656 0.38751 0.03004 0.44 0.03646 0.49271 C 0.03594 0.5119 0.03854 0.54705 0.03021 0.56878 C 0.0283 0.57364 0.02448 0.57734 0.02066 0.57942 C 0.01667 0.58173 0.00799 0.58358 0.00799 0.58358 C -0.00781 0.56347 0.00313 0.57942 0.00799 0.50959 C 0.00886 0.49688 0.02413 0.42936 0.02535 0.42705 C 0.02847 0.4215 0.03229 0.41618 0.0349 0.41017 C 0.05052 0.3741 0.06441 0.33387 0.08733 0.30451 C 0.08785 0.30243 0.09045 0.29826 0.08889 0.29826 C 0.08698 0.29826 0.08663 0.30243 0.08577 0.30451 C 0.07639 0.3267 0.0849 0.30936 0.07778 0.32347 C 0.07274 0.34404 0.06424 0.36231 0.05868 0.38266 C 0.0566 0.39052 0.05434 0.39815 0.05243 0.40601 C 0.05122 0.41156 0.04913 0.42289 0.04913 0.42289 C 0.05087 0.4356 0.05052 0.44393 0.06024 0.44832 C 0.07083 0.4437 0.07344 0.43352 0.07934 0.42289 C 0.09358 0.39676 0.12031 0.36416 0.12865 0.3341 C 0.12639 0.36185 0.12031 0.38728 0.1158 0.41433 C 0.11424 0.4356 0.11233 0.45086 0.1158 0.47352 C 0.11615 0.47607 0.11823 0.46959 0.1191 0.46728 C 0.12188 0.46034 0.12465 0.45341 0.12691 0.44624 C 0.13004 0.4363 0.13333 0.42659 0.13646 0.41664 C 0.14479 0.39006 0.15278 0.36208 0.16511 0.33826 C 0.1717 0.32532 0.17847 0.30566 0.18889 0.29595 C 0.19167 0.28508 0.18941 0.28948 0.19358 0.30034 C 0.19497 0.30404 0.19688 0.30728 0.19844 0.31075 C 0.20052 0.32832 0.20747 0.3452 0.21267 0.36162 C 0.21511 0.38451 0.22136 0.41734 0.21111 0.43769 C 0.21198 0.4037 0.20747 0.3415 0.2349 0.31722 C 0.25226 0.31953 0.25261 0.31815 0.26354 0.33202 C 0.26927 0.35167 0.26788 0.37248 0.26979 0.39329 C 0.27049 0.40162 0.27188 0.40763 0.27778 0.41017 C 0.28542 0.40532 0.28993 0.4037 0.29844 0.40185 C 0.30139 0.39977 0.30677 0.3963 0.30955 0.39329 C 0.31129 0.39144 0.31233 0.38867 0.31424 0.38705 C 0.31563 0.38566 0.3191 0.38474 0.3191 0.38474 E">
                                      <p:cBhvr>
                                        <p:cTn id="3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4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3247 -0.08532 0.26511 -0.17064 0.27465 -0.20301 C 0.2842 -0.23538 0.07448 -0.13735 0.05729 -0.19445 C 0.04011 -0.25156 0.23056 -0.48671 0.17153 -0.54544 C 0.1125 -0.60417 -0.27604 -0.53989 -0.2967 -0.54752 C -0.31736 -0.55515 0.08629 -0.59954 0.04775 -0.59191 C 0.0092 -0.58428 -0.44271 -0.55284 -0.52847 -0.50104 C -0.61423 -0.44925 -0.52969 -0.28671 -0.46666 -0.28116 C -0.40364 -0.27561 -0.21684 -0.48532 -0.15069 -0.46729 C -0.08455 -0.44925 0.00139 -0.11469 -0.06979 -0.17341 C -0.14097 -0.23214 -0.64288 -0.71399 -0.57778 -0.82012 C -0.51267 -0.92625 0.32136 -0.95792 0.32066 -0.80972 C 0.31997 -0.66151 -0.4783 -0.06266 -0.58246 0.06982 C -0.68663 0.20231 -0.33611 0.07005 -0.30469 -0.0148 C -0.27326 -0.09966 -0.3335 -0.26983 -0.39357 -0.43977 E">
                                      <p:cBhvr>
                                        <p:cTn id="44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9 -0.01896 C 0.0401 -0.05596 0.12621 -0.03977 0.20312 -0.0148 C 0.23437 -0.01549 0.26545 -0.01549 0.2967 -0.01688 C 0.30885 -0.01734 0.32048 -0.02891 0.33177 -0.03376 C 0.33593 -0.03977 0.3408 -0.04417 0.346 -0.04856 C 0.34479 -0.06289 0.34479 -0.07168 0.33802 -0.08255 C 0.33663 -0.08486 0.33524 -0.0874 0.33333 -0.08879 C 0.33038 -0.09087 0.32378 -0.09295 0.32378 -0.09272 C 0.30833 -0.08648 0.31041 -0.07422 0.30312 -0.05919 C 0.29982 -0.03769 0.29774 -0.03769 0.28246 -0.0296 C 0.26666 -0.03029 0.25069 -0.02891 0.23489 -0.03168 C 0.22795 -0.03284 0.21875 -0.04301 0.21111 -0.04648 C 0.17812 -0.07954 0.16041 -0.11862 0.13958 -0.16486 C 0.1335 -0.1785 0.13038 -0.19399 0.12378 -0.20717 C 0.12066 -0.22035 0.11875 -0.23376 0.11736 -0.2474 C 0.11788 -0.27353 0.11753 -0.29966 0.11892 -0.32555 C 0.11944 -0.33573 0.12656 -0.34081 0.13003 -0.34891 C 0.1401 -0.37203 0.16753 -0.4037 0.18732 -0.4081 C 0.19878 -0.41573 0.21128 -0.41665 0.22378 -0.4185 C 0.23229 -0.41642 0.24218 -0.41896 0.24913 -0.41226 C 0.2559 -0.40555 0.26215 -0.40255 0.26979 -0.39746 C 0.27656 -0.38844 0.30295 -0.36948 0.31423 -0.3637 C 0.32205 -0.35284 0.3151 -0.36 0.32534 -0.35515 C 0.33212 -0.35191 0.33802 -0.34613 0.34444 -0.34243 C 0.34757 -0.34058 0.35104 -0.34035 0.35399 -0.33827 C 0.35607 -0.33688 0.35816 -0.33549 0.36024 -0.33411 C 0.36823 -0.3348 0.37621 -0.33457 0.38402 -0.33619 C 0.39271 -0.33804 0.40712 -0.36208 0.41267 -0.36995 C 0.42448 -0.38706 0.4375 -0.4037 0.44757 -0.42289 C 0.46354 -0.45364 0.45573 -0.44255 0.46823 -0.45873 C 0.46996 -0.47029 0.47361 -0.47792 0.47777 -0.48833 C 0.48507 -0.52786 0.46823 -0.55769 0.45555 -0.58983 C 0.44201 -0.62382 0.42656 -0.6518 0.40937 -0.68278 C 0.4033 -0.69411 0.39739 -0.70405 0.39027 -0.71445 C 0.38559 -0.72185 0.38472 -0.7281 0.37777 -0.73156 C 0.371 -0.73989 0.36111 -0.7422 0.35208 -0.74405 C 0.33559 -0.75191 0.31666 -0.75677 0.30156 -0.76948 C 0.29739 -0.77295 0.2934 -0.77734 0.28889 -0.78012 C 0.27482 -0.78891 0.25868 -0.79307 0.24444 -0.80116 C 0.23889 -0.80417 0.23402 -0.80925 0.22847 -0.8118 C 0.22343 -0.81411 0.21788 -0.81411 0.21267 -0.81596 C 0.20052 -0.82058 0.18837 -0.82613 0.17621 -0.83075 C 0.16458 -0.83515 0.15486 -0.84301 0.14288 -0.84555 C 0.12743 -0.85619 0.11111 -0.85619 0.09357 -0.85619 C 0.02899 -0.85734 -0.03941 -0.88971 -0.1 -0.86035 C -0.11702 -0.85203 -0.10104 -0.75075 -0.08577 -0.72301 C -0.08299 -0.70752 -0.08559 -0.71677 -0.07466 -0.69758 C -0.07257 -0.69388 -0.07188 -0.68879 -0.06997 -0.68486 C -0.06511 -0.67515 -0.05816 -0.66636 -0.05243 -0.65758 C -0.0408 -0.63977 -0.03177 -0.61896 -0.0191 -0.60255 C -0.01563 -0.59075 -0.01025 -0.58497 -0.00486 -0.57503 C 0.01059 -0.54636 0.02882 -0.5281 0.04913 -0.50521 C 0.06614 -0.48601 0.08194 -0.46567 0.10312 -0.45457 C 0.11007 -0.44509 0.10521 -0.44925 0.1158 -0.44601 C 0.11996 -0.44463 0.12847 -0.44185 0.12847 -0.44162 C 0.13368 -0.44278 0.15416 -0.44555 0.16337 -0.4481 C 0.17413 -0.4511 0.18333 -0.45827 0.19357 -0.46289 C 0.20191 -0.46659 0.19878 -0.46359 0.20781 -0.46937 C 0.21771 -0.47584 0.22795 -0.48162 0.23802 -0.48833 C 0.24097 -0.49041 0.24757 -0.49249 0.24757 -0.49226 C 0.24913 -0.49388 0.25052 -0.49573 0.25225 -0.49688 C 0.25538 -0.49873 0.2618 -0.50104 0.2618 -0.50081 C 0.26823 -0.50035 0.27482 -0.50151 0.28073 -0.49896 C 0.28246 -0.49827 0.28246 -0.4948 0.28246 -0.49249 C 0.28246 -0.48347 0.28212 -0.47422 0.28073 -0.46521 C 0.28055 -0.46266 0.27899 -0.46058 0.27777 -0.45873 C 0.27361 -0.45249 0.26267 -0.43492 0.25712 -0.42914 C 0.22882 -0.39977 0.19531 -0.38983 0.16024 -0.38474 C 0.14271 -0.38544 0.12517 -0.38428 0.10781 -0.38682 C 0.10017 -0.38798 0.08889 -0.4037 0.08889 -0.40347 C 0.08507 -0.41364 0.0809 -0.42289 0.07777 -0.4333 C 0.07378 -0.46289 0.07552 -0.45018 0.07291 -0.47145 C 0.0743 -0.51677 0.06962 -0.5318 0.09045 -0.56232 C 0.09323 -0.56648 0.09514 -0.57156 0.09843 -0.57503 C 0.1092 -0.58729 0.12361 -0.59931 0.13646 -0.60879 C 0.13958 -0.6111 0.14271 -0.61341 0.146 -0.61526 C 0.14913 -0.61688 0.15555 -0.61943 0.15555 -0.61919 C 0.1658 -0.61596 0.16232 -0.6118 0.16666 -0.59838 C 0.16944 -0.56139 0.16701 -0.58405 0.17621 -0.53064 L 0.17621 -0.53041 C 0.1783 -0.51237 0.18246 -0.47561 0.18246 -0.47538 C 0.18402 -0.4474 0.19566 -0.3933 0.17291 -0.3785 C 0.15173 -0.38983 0.13281 -0.40856 0.11267 -0.42289 C 0.10694 -0.42682 0.10191 -0.43168 0.0967 -0.43561 C 0.0934 -0.43815 0.08732 -0.44393 0.08732 -0.4437 C 0.0868 -0.45734 0.08698 -0.47075 0.08559 -0.48417 C 0.08472 -0.4918 0.0783 -0.49896 0.07448 -0.50312 C 0.06632 -0.51168 0.05764 -0.52185 0.04739 -0.52648 C 0.04132 -0.52925 0.0401 -0.52717 0.03489 -0.53064 C 0.02396 -0.53781 0.03663 -0.53272 0.02378 -0.53688 C -0.00243 -0.53526 -0.02552 -0.5311 -0.05087 -0.5244 C -0.06736 -0.51538 -0.08403 -0.51792 -0.09844 -0.53064 C -0.09948 -0.53272 -0.10035 -0.53503 -0.10157 -0.53688 C -0.10452 -0.54128 -0.10851 -0.54474 -0.11111 -0.5496 C -0.11754 -0.56139 -0.12431 -0.57295 -0.13177 -0.58359 C -0.13577 -0.59954 -0.13299 -0.5926 -0.13976 -0.60463 C -0.1441 -0.62243 -0.15 -0.63792 -0.16042 -0.6511 C -0.16598 -0.66636 -0.16545 -0.66497 -0.17778 -0.65966 C -0.18681 -0.64763 -0.18993 -0.64162 -0.19375 -0.62567 C -0.19323 -0.61943 -0.19323 -0.61295 -0.19219 -0.60671 C -0.1908 -0.59885 -0.18768 -0.59769 -0.1842 -0.59191 C -0.17639 -0.57919 -0.16736 -0.56948 -0.15886 -0.55815 C -0.15157 -0.54844 -0.1599 -0.55353 -0.15087 -0.5496 C -0.14601 -0.54128 -0.14098 -0.52971 -0.13334 -0.52648 C -0.12379 -0.51746 -0.11841 -0.52694 -0.10955 -0.53272 C -0.10018 -0.54521 -0.10365 -0.53919 -0.09844 -0.5496 C -0.09427 -0.56786 -0.09393 -0.58867 -0.10486 -0.60255 C -0.10677 -0.61018 -0.10764 -0.61665 -0.11111 -0.62359 C -0.11528 -0.64116 -0.12413 -0.65758 -0.13021 -0.67445 C -0.13386 -0.6844 -0.13264 -0.69041 -0.1382 -0.69758 C -0.14028 -0.7059 -0.1441 -0.71168 -0.14775 -0.71885 C -0.15486 -0.74752 -0.15174 -0.77827 -0.15556 -0.80763 C -0.15608 -0.8111 -0.1625 -0.81827 -0.16354 -0.82035 C -0.16771 -0.82821 -0.17223 -0.83723 -0.17622 -0.84555 C -0.18143 -0.85619 -0.17761 -0.8511 -0.18108 -0.86035 C -0.18559 -0.87214 -0.19063 -0.8837 -0.19375 -0.89642 C -0.17396 -0.90937 -0.1757 -0.91052 -0.15087 -0.9133 C -0.11493 -0.9126 -0.07882 -0.9133 -0.04288 -0.91122 C -0.03959 -0.91099 -0.03663 -0.90798 -0.03334 -0.90682 C -0.02084 -0.90197 -0.00816 -0.89943 0.00468 -0.89642 C 0.01059 -0.89503 0.02222 -0.89203 0.02222 -0.8918 C 0.05694 -0.89526 0.09201 -0.8985 0.12691 -0.90266 C 0.1401 -0.90613 0.15347 -0.90867 0.16666 -0.91122 C 0.18194 -0.91029 0.20555 -0.90497 0.22222 -0.90474 C 0.32968 -0.90266 0.54444 -0.90058 0.54444 -0.90035 C 0.56649 -0.8948 0.58923 -0.89989 0.61111 -0.89203 C 0.62795 -0.8696 0.64496 -0.84694 0.6618 -0.82451 C 0.6783 -0.80232 0.69045 -0.77434 0.70312 -0.74844 C 0.71771 -0.71862 0.73455 -0.6911 0.74913 -0.66174 C 0.75295 -0.64625 0.75139 -0.65341 0.75399 -0.64047 C 0.7526 -0.61156 0.75191 -0.58821 0.73646 -0.56648 C 0.73455 -0.55862 0.73212 -0.55214 0.72847 -0.54544 C 0.72604 -0.53573 0.72205 -0.52717 0.71892 -0.51792 C 0.71701 -0.51214 0.71267 -0.50104 0.71267 -0.50081 C 0.71041 -0.48255 0.70781 -0.46474 0.70625 -0.44601 C 0.70694 -0.40116 0.7033 -0.31191 0.7158 -0.26012 C 0.71753 -0.25272 0.72048 -0.24625 0.72222 -0.23885 C 0.7217 -0.2 0.72014 -0.16139 0.72066 -0.12255 C 0.72066 -0.12232 0.73489 -0.08417 0.73003 -0.10151 C 0.71892 -0.09781 0.71059 -0.09156 0.7 -0.08671 C 0.68368 -0.07908 0.66944 -0.07584 0.65225 -0.07399 C 0.59531 -0.07677 0.55607 -0.08047 0.50156 -0.07815 C 0.48038 -0.06891 0.45833 -0.05665 0.43646 -0.05087 C 0.41493 -0.03607 0.38837 -0.04116 0.3651 -0.03376 C 0.35538 -0.03075 0.34583 -0.0259 0.33646 -0.02128 C 0.3335 -0.01989 0.33125 -0.01827 0.32847 -0.01688 C 0.32534 -0.01526 0.31892 -0.01272 0.31892 -0.01249 C 0.31215 -0.02174 0.30382 -0.02844 0.29514 -0.03376 C 0.29097 -0.0363 0.28628 -0.03723 0.28246 -0.04023 C 0.27448 -0.04648 0.26927 -0.05064 0.26024 -0.05295 C 0.25034 -0.06289 0.23871 -0.06891 0.22691 -0.07399 C 0.20885 -0.08185 0.19166 -0.09665 0.17291 -0.10151 C 0.1592 -0.10867 0.14427 -0.11168 0.13003 -0.1163 C 0.11527 -0.12116 0.10069 -0.12625 0.08559 -0.12902 C 0.06337 -0.12833 0.04114 -0.1281 0.01892 -0.12694 C 0.0092 -0.12648 0.00104 -0.11977 -0.00799 -0.1163 C -0.02101 -0.11145 -0.03438 -0.10775 -0.04775 -0.10567 C -0.05191 -0.10382 -0.05625 -0.10359 -0.06042 -0.10151 C -0.07049 -0.09665 -0.07709 -0.08393 -0.08733 -0.08047 C -0.09549 -0.07307 -0.10313 -0.06682 -0.11268 -0.06336 C -0.12049 -0.05341 -0.11094 -0.06451 -0.12066 -0.05711 C -0.12882 -0.0511 -0.13542 -0.04208 -0.14445 -0.03815 C -0.16598 -0.01896 -0.14549 -0.037 -0.15886 -0.02544 C -0.16042 -0.02405 -0.16354 -0.02128 -0.16354 -0.02104 C -0.16667 -0.0148 -0.16979 -0.01156 -0.17153 -0.00417 C -0.17101 0.00485 -0.17309 0.01503 -0.16997 0.02312 C -0.16875 0.02636 -0.16441 0.02266 -0.16198 0.02104 C -0.15486 0.01595 -0.15 0.00925 -0.14445 0.00208 C -0.14341 -0.00347 -0.14098 -0.00902 -0.14132 -0.0148 C -0.14167 -0.01989 -0.1415 -0.03654 -0.14445 -0.0444 C -0.15052 -0.06035 -0.17674 -0.05966 -0.18733 -0.06128 C -0.1974 -0.05966 -0.20174 -0.05989 -0.20955 -0.05295 C -0.21007 -0.05018 -0.21007 -0.04694 -0.21111 -0.0444 C -0.21181 -0.04255 -0.21389 -0.04208 -0.21441 -0.04023 C -0.21615 -0.03422 -0.21598 -0.02752 -0.21754 -0.02128 C -0.21702 -0.01341 -0.21893 -0.00463 -0.21598 0.00208 C -0.21441 0.00578 -0.20973 0.00439 -0.20643 0.00416 C -0.19844 0.0037 -0.19063 0.00138 -0.18264 3.3526E-006 C -0.17639 -0.00278 -0.17205 -0.0081 -0.16667 -0.01272 C -0.16615 -0.01549 -0.16615 -0.01873 -0.16511 -0.02128 C -0.16337 -0.02567 -0.15886 -0.03376 -0.15886 -0.03353 C -0.15677 -0.04694 -0.15556 -0.0518 -0.15556 -0.06775 C -0.15556 -0.09249 -0.15608 -0.117 -0.15712 -0.14174 C -0.15782 -0.16116 -0.16615 -0.18243 -0.16997 -0.20093 C -0.17101 -0.20578 -0.17604 -0.23399 -0.17778 -0.23677 C -0.17882 -0.23862 -0.18108 -0.23815 -0.18264 -0.23885 C -0.18577 -0.23677 -0.18976 -0.23607 -0.19219 -0.2326 C -0.20556 -0.21318 -0.20695 -0.18636 -0.21268 -0.16278 C -0.21424 -0.14844 -0.21875 -0.12856 -0.21441 -0.11422 C -0.21372 -0.11214 -0.21111 -0.11284 -0.20955 -0.11214 C -0.18438 -0.11769 -0.16893 -0.14682 -0.15556 -0.17341 C -0.1533 -0.18266 -0.14948 -0.19145 -0.14775 -0.20093 C -0.1408 -0.23769 -0.14705 -0.21688 -0.14288 -0.24324 C -0.13473 -0.2948 -0.12396 -0.34706 -0.11268 -0.39746 C -0.11511 -0.45203 -0.11476 -0.51376 -0.12379 -0.56879 C -0.12604 -0.59862 -0.12865 -0.62798 -0.13177 -0.65758 C -0.13247 -0.66405 -0.13368 -0.68786 -0.1349 -0.69549 C -0.13681 -0.70752 -0.13802 -0.73156 -0.14775 -0.73573 C -0.15278 -0.73341 -0.15851 -0.73411 -0.16354 -0.73156 C -0.16719 -0.72971 -0.17309 -0.72301 -0.17309 -0.72278 C -0.17413 -0.72093 -0.175 -0.71862 -0.17622 -0.71677 C -0.17761 -0.71445 -0.17986 -0.71284 -0.18108 -0.71029 C -0.18195 -0.70844 -0.18177 -0.7059 -0.18264 -0.70405 C -0.18386 -0.70151 -0.18577 -0.69966 -0.18733 -0.69758 C -0.18941 -0.68902 -0.19427 -0.6837 -0.19844 -0.67654 C -0.19948 -0.67191 -0.20295 -0.66867 -0.2033 -0.66382 C -0.20434 -0.64601 -0.19861 -0.6111 -0.1842 -0.60463 C -0.17223 -0.61087 -0.1757 -0.61388 -0.16667 -0.62567 C -0.14983 -0.67168 -0.1283 -0.71723 -0.1191 -0.7674 C -0.12066 -0.77619 -0.12223 -0.78012 -0.12709 -0.78636 C -0.1316 -0.80509 -0.13334 -0.82474 -0.1382 -0.84347 C -0.14098 -0.86914 -0.14879 -0.89226 -0.154 -0.91746 C -0.15643 -0.92902 -0.16181 -0.94012 -0.16511 -0.95122 C -0.16632 -0.95538 -0.16823 -0.96393 -0.16823 -0.9637 C -0.17986 -0.95399 -0.17518 -0.9607 -0.16997 -0.92601 C -0.16684 -0.90567 -0.16111 -0.87769 -0.15556 -0.85827 C -0.13941 -0.80116 -0.12257 -0.77041 -0.09375 -0.71885 C -0.08611 -0.70521 -0.07413 -0.69688 -0.06511 -0.68486 C -0.05608 -0.67284 -0.04966 -0.65758 -0.03976 -0.64694 C -0.01198 -0.61734 0.02812 -0.57573 0.06649 -0.56648 C 0.06823 -0.56717 0.07066 -0.56671 0.07135 -0.56879 C 0.07205 -0.57087 0.06979 -0.57295 0.06979 -0.57503 C 0.06979 -0.59099 0.07066 -0.60995 0.07777 -0.62359 C 0.07639 -0.64532 0.07639 -0.67492 0.06337 -0.69133 C 0.05694 -0.70821 0.06458 -0.69226 0.05399 -0.70405 C 0.05243 -0.70567 0.05243 -0.70914 0.05069 -0.71029 C 0.04514 -0.71376 0.03906 -0.71469 0.03333 -0.71677 L 0.03333 -0.71654 C 0.03021 -0.71815 0.02378 -0.72093 0.02378 -0.7207 C -0.01094 -0.71654 -0.00157 -0.71931 -0.02223 -0.70821 C -0.02691 -0.69989 -0.03091 -0.6918 -0.0349 -0.68278 C -0.03802 -0.65573 -0.04584 -0.6222 -0.03334 -0.59838 C -0.02882 -0.57989 -0.01858 -0.59654 -0.01111 -0.60255 C -0.00712 -0.60925 -0.00191 -0.61457 0.00156 -0.62151 C 0.00312 -0.62474 0.00347 -0.62867 0.00468 -0.63214 C 0.00989 -0.64717 0.01632 -0.66336 0.02378 -0.67654 C 0.02725 -0.69064 0.02986 -0.70474 0.03333 -0.71885 C 0.03246 -0.73573 0.03385 -0.757 0.02222 -0.7674 C -0.00365 -0.7607 -0.02049 -0.73457 -0.03177 -0.70405 C -0.03577 -0.677 -0.04167 -0.65318 -0.04445 -0.62567 C -0.04045 -0.52995 -0.04618 -0.57549 -0.02865 -0.48833 C -0.02604 -0.47492 -0.01806 -0.46451 -0.01268 -0.45249 C -0.01077 -0.4481 -0.00938 -0.44301 -0.00643 -0.43977 C -0.00382 -0.437 0.00312 -0.43561 0.00312 -0.43538 C 0.05191 -0.45503 0.05816 -0.50729 0.08402 -0.55399 C 0.1151 -0.60995 0.15139 -0.6585 0.18246 -0.71445 C 0.19462 -0.73642 0.20764 -0.75607 0.21423 -0.7822 C 0.21267 -0.80694 0.21371 -0.81249 0.20156 -0.82867 C 0.19357 -0.82659 0.18541 -0.82567 0.17777 -0.82243 C 0.15 -0.81041 0.13264 -0.77226 0.12066 -0.73989 C 0.11857 -0.72532 0.11562 -0.70844 0.1158 -0.69341 C 0.11684 -0.62104 0.11475 -0.50821 0.17934 -0.48 C 0.1835 -0.48208 0.18819 -0.48301 0.19201 -0.48625 C 0.20069 -0.49341 0.2026 -0.50382 0.20625 -0.51584 C 0.21059 -0.52995 0.21562 -0.54359 0.21892 -0.55815 C 0.221 -0.5674 0.22257 -0.57665 0.22534 -0.58567 C 0.23333 -0.61226 0.24357 -0.63746 0.25225 -0.66382 C 0.25677 -0.67769 0.26284 -0.69064 0.26823 -0.70405 C 0.27014 -0.70914 0.27239 -0.71399 0.27448 -0.71885 C 0.27569 -0.72162 0.27777 -0.72717 0.27777 -0.72694 C 0.28125 -0.75029 0.27934 -0.76278 0.2618 -0.7674 C 0.25764 -0.76671 0.25295 -0.76786 0.24913 -0.76532 C 0.24357 -0.76162 0.24218 -0.74983 0.23802 -0.74405 C 0.23611 -0.73642 0.23316 -0.7311 0.23177 -0.72301 C 0.23281 -0.71815 0.23264 -0.71237 0.23489 -0.70821 C 0.23611 -0.7059 0.23923 -0.70752 0.24114 -0.70613 C 0.24409 -0.70382 0.24618 -0.69966 0.24913 -0.69758 C 0.27951 -0.67654 0.27118 -0.6837 0.29982 -0.67445 C 0.30798 -0.67191 0.31562 -0.66775 0.32378 -0.6659 C 0.33107 -0.66428 0.33854 -0.66451 0.346 -0.66382 C 0.35816 -0.66521 0.37031 -0.66567 0.38246 -0.66798 C 0.39323 -0.67006 0.41423 -0.67654 0.41423 -0.6763 C 0.43507 -0.69018 0.42291 -0.68116 0.44913 -0.70613 C 0.45521 -0.71191 0.45816 -0.72232 0.46337 -0.72925 C 0.46475 -0.73989 0.46718 -0.74867 0.46979 -0.75885 C 0.46927 -0.76879 0.46962 -0.77873 0.46823 -0.78844 C 0.46788 -0.79052 0.46614 -0.79145 0.4651 -0.79284 C 0.4526 -0.80925 0.44149 -0.81156 0.42378 -0.81388 C 0.37968 -0.8118 0.34427 -0.80833 0.30625 -0.78012 C 0.29791 -0.7644 0.29392 -0.75237 0.29027 -0.73364 C 0.2875 -0.68601 0.2842 -0.637 0.29201 -0.58983 C 0.31163 -0.47237 0.37569 -0.37203 0.46337 -0.33619 C 0.5033 -0.31977 0.50989 -0.32162 0.546 -0.31931 C 0.56406 -0.32417 0.58246 -0.32648 0.6 -0.33411 C 0.60416 -0.33596 0.63871 -0.36255 0.646 -0.36995 C 0.6559 -0.37989 0.6658 -0.39006 0.67448 -0.40162 C 0.68958 -0.42174 0.70781 -0.43977 0.71736 -0.46521 C 0.73402 -0.5096 0.74305 -0.55145 0.74913 -0.60047 C 0.74548 -0.65943 0.74687 -0.68995 0.72691 -0.73781 C 0.71823 -0.75862 0.71059 -0.77734 0.69357 -0.78844 C 0.6835 -0.80232 0.66284 -0.8081 0.64913 -0.81388 C 0.63576 -0.81943 0.62291 -0.82914 0.60955 -0.83284 C 0.59583 -0.83075 0.58194 -0.82914 0.56823 -0.82659 C 0.5585 -0.82451 0.55156 -0.81665 0.54288 -0.8118 C 0.53628 -0.8081 0.52899 -0.80648 0.52222 -0.80324 C 0.5059 -0.79469 0.49097 -0.78521 0.47448 -0.77804 C 0.4533 -0.75677 0.42882 -0.74266 0.4158 -0.71029 C 0.41163 -0.70012 0.41024 -0.69156 0.40781 -0.6807 C 0.40521 -0.6518 0.40642 -0.66613 0.40312 -0.62359 C 0.4026 -0.61665 0.40156 -0.60255 0.40156 -0.60232 C 0.40382 -0.53966 0.40104 -0.49457 0.43333 -0.4481 C 0.4434 -0.43353 0.45764 -0.41989 0.47135 -0.41226 C 0.47951 -0.40763 0.4967 -0.40162 0.4967 -0.40139 C 0.525 -0.40625 0.52205 -0.40023 0.53333 -0.42497 C 0.5401 -0.47145 0.52274 -0.5096 0.50625 -0.54752 C 0.48177 -0.60417 0.42743 -0.66937 0.37934 -0.68717 C 0.36666 -0.6844 0.3533 -0.68463 0.34114 -0.67862 C 0.3125 -0.66428 0.29323 -0.62012 0.27777 -0.58983 C 0.24357 -0.52301 0.23038 -0.44555 0.21736 -0.36786 C 0.21302 -0.29341 0.21302 -0.16671 0.27118 -0.12255 C 0.28906 -0.10914 0.29132 -0.11168 0.31267 -0.10775 C 0.33177 -0.11052 0.35121 -0.11052 0.36979 -0.1163 C 0.446 -0.13989 0.46389 -0.2518 0.4809 -0.33619 C 0.48281 -0.41156 0.48559 -0.43006 0.47135 -0.52 C 0.46493 -0.56047 0.44201 -0.61295 0.42534 -0.64694 C 0.36753 -0.76555 0.28021 -0.87654 0.17135 -0.90058 C 0.15573 -0.90405 0.13958 -0.90197 0.12378 -0.90266 C 0.08889 -0.90197 0.05382 -0.90428 0.01892 -0.90058 C -0.04358 -0.89411 -0.10521 -0.86151 -0.15886 -0.82035 C -0.17848 -0.78729 -0.18716 -0.77503 -0.19219 -0.73364 C -0.19514 -0.66544 -0.19306 -0.57041 -0.13334 -0.5496 C -0.12639 -0.55168 -0.11893 -0.55145 -0.11268 -0.55607 C -0.10417 -0.56232 -0.09063 -0.58128 -0.09063 -0.58104 C -0.08785 -0.58775 -0.08559 -0.59422 -0.08264 -0.60047 C -0.07917 -0.60763 -0.07466 -0.61388 -0.07153 -0.62151 C -0.06823 -0.6296 -0.06667 -0.63885 -0.06354 -0.64694 C -0.05573 -0.66706 -0.0467 -0.67885 -0.03663 -0.69758 C -0.03108 -0.70798 -0.02674 -0.71954 -0.02066 -0.72925 C -0.01302 -0.74151 -0.00417 -0.7526 0.00468 -0.76324 C 0.00694 -0.76601 0.01128 -0.76578 0.01267 -0.76948 C 0.01371 -0.77203 0.00833 -0.7681 0.00625 -0.7674 C -0.02223 -0.74474 -0.04861 -0.73341 -0.05886 -0.68717 C -0.06563 -0.61573 -0.03004 -0.53966 0.02534 -0.53064 C 0.04843 -0.53758 0.04843 -0.53295 0.05555 -0.56023 C 0.06284 -0.63885 0.0342 -0.71399 -0.00157 -0.77364 C -0.01476 -0.79561 -0.02743 -0.81596 -0.04601 -0.83075 C -0.07327 -0.85226 -0.10868 -0.85734 -0.13976 -0.86035 C -0.16875 -0.85619 -0.18802 -0.86659 -0.19688 -0.83075 C -0.19375 -0.81526 -0.19236 -0.79885 -0.18733 -0.78428 C -0.18403 -0.77457 -0.16702 -0.75607 -0.16042 -0.75052 C -0.13629 -0.73018 -0.11372 -0.72301 -0.08577 -0.71885 C -0.07674 -0.72047 -0.0658 -0.72185 -0.06042 -0.73364 C -0.05729 -0.74035 -0.05243 -0.75469 -0.05243 -0.75445 C -0.05191 -0.75954 -0.05087 -0.7644 -0.05087 -0.76948 C -0.05087 -0.78497 -0.0474 -0.80185 -0.05243 -0.81596 C -0.05434 -0.82128 -0.06094 -0.81203 -0.06511 -0.80971 C -0.08004 -0.80093 -0.09306 -0.78891 -0.10799 -0.78012 C -0.11841 -0.76625 -0.12292 -0.75654 -0.12709 -0.73781 C -0.12518 -0.7126 -0.12552 -0.6911 -0.11754 -0.66798 C -0.11129 -0.64948 -0.09913 -0.62983 -0.08889 -0.61526 C -0.05764 -0.5711 -0.04271 -0.55584 0.00156 -0.54128 C 0.01319 -0.54266 0.02534 -0.54058 0.03646 -0.54544 C 0.06909 -0.56 0.08316 -0.60162 0.09357 -0.64047 C 0.09462 -0.64833 0.09722 -0.65596 0.0967 -0.66382 C 0.09514 -0.68393 0.09739 -0.73549 0.07291 -0.74197 C 0.06562 -0.74382 0.05816 -0.74336 0.05069 -0.74405 C 0.02639 -0.73758 0.01545 -0.73249 3.05556E-006 -0.70613 C -0.00434 -0.68532 -0.00764 -0.67977 -0.0033 -0.65758 C 0.00121 -0.63492 0.0125 -0.62012 0.02534 -0.60463 C 0.0559 -0.56786 0.09323 -0.54035 0.13333 -0.52648 C 0.14843 -0.52139 0.16406 -0.51931 0.17934 -0.51584 C 0.19896 -0.51792 0.21857 -0.51815 0.23802 -0.52208 C 0.26944 -0.52856 0.28889 -0.56324 0.30468 -0.59607 C 0.30937 -0.62428 0.31562 -0.64995 0.31736 -0.67862 C 0.3158 -0.71307 0.32083 -0.71931 0.29843 -0.72925 C 0.26944 -0.72601 0.24184 -0.72763 0.2158 -0.71029 C 0.18663 -0.65087 0.26406 -0.60879 0.29514 -0.59838 C 0.31024 -0.5933 0.32569 -0.59052 0.34114 -0.58775 C 0.35017 -0.58613 0.3592 -0.58636 0.36823 -0.58567 C 0.40208 -0.5896 0.42777 -0.59307 0.45208 -0.62567 C 0.45521 -0.63838 0.46111 -0.65041 0.46163 -0.66382 C 0.46423 -0.72047 0.39201 -0.71561 0.36979 -0.71677 C 0.26232 -0.70544 0.16163 -0.70197 0.06649 -0.63006 C 0.06128 -0.62012 0.05416 -0.61156 0.05069 -0.60047 C 0.04826 -0.5926 0.04878 -0.58359 0.04913 -0.57503 C 0.05087 -0.51723 0.0842 -0.49781 0.12066 -0.48417 C 0.13073 -0.48694 0.14132 -0.48717 0.15069 -0.49249 C 0.15451 -0.49457 0.15625 -0.50058 0.15868 -0.50521 C 0.16805 -0.52324 0.17014 -0.54336 0.17291 -0.5644 C 0.171 -0.57989 0.17152 -0.6185 0.15555 -0.62567 C 0.13784 -0.61526 0.1368 -0.61896 0.12691 -0.59607 C 0.12205 -0.58474 0.11423 -0.56023 0.11423 -0.56 C 0.11562 -0.54682 0.1184 -0.50405 0.12534 -0.48833 C 0.14444 -0.44532 0.1901 -0.4326 0.22378 -0.42914 C 0.24218 -0.43399 0.24687 -0.43399 0.25555 -0.45665 C 0.25399 -0.46729 0.25364 -0.47838 0.25069 -0.48833 C 0.24288 -0.51469 0.21493 -0.53133 0.1967 -0.53688 C 0.15364 -0.55029 0.12986 -0.54798 0.08559 -0.5496 C 0.07083 -0.54891 0.05573 -0.55052 0.04114 -0.54752 C 0.00191 -0.53919 -0.0283 -0.50405 -0.05886 -0.47353 C -0.07049 -0.44833 -0.08473 -0.42474 -0.08577 -0.3933 C -0.08941 -0.30151 -0.06354 -0.25064 -0.00486 -0.21133 C 0.02413 -0.21388 0.02378 -0.20763 0.03333 -0.24093 C 0.03628 -0.26451 0.0375 -0.2807 0.02066 -0.2918 C 0.00225 -0.27954 -0.01129 -0.26104 -0.02552 -0.24093 C -0.05104 -0.20486 -0.07413 -0.16995 -0.08577 -0.12255 C -0.08473 -0.1126 -0.08507 -0.10243 -0.08264 -0.09295 C -0.08212 -0.09087 -0.07934 -0.09018 -0.07778 -0.09087 C -0.0717 -0.09318 -0.06563 -0.1059 -0.06198 -0.11214 C -0.06025 -0.12162 -0.05643 -0.12717 -0.05243 -0.13526 C -0.06216 -0.0837 -0.04653 -0.01041 -0.00157 -0.00208 C 0.00364 -0.00417 0.0092 -0.00532 0.01423 -0.00856 C 0.0184 -0.0111 0.02534 -0.01896 0.02534 -0.01873 C 0.02968 -0.0363 0.03125 -0.03191 0.02378 -0.0296 C 0.02066 -0.02867 0.01736 -0.02821 0.01423 -0.02752 C 0.0059 -0.02382 0.0026 -0.02428 -0.00486 -0.01688 C -0.00625 -0.00971 -0.00782 3.3526E-006 3.05556E-006 3.3526E-006 E">
                                      <p:cBhvr>
                                        <p:cTn id="48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752480" y="3048120"/>
            <a:ext cx="57150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Poor Richard"/>
              </a:rPr>
              <a:t>YOU WIN!!!!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Poor Richard"/>
              <a:ea typeface="Poor Richard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52680" y="304920"/>
            <a:ext cx="25862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371600" y="1371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JazzText"/>
              </a:rPr>
              <a:t>Sorry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JazzText"/>
              <a:ea typeface="JazzTex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5715000"/>
            <a:ext cx="3429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askerville Old Face"/>
              </a:rPr>
              <a:t>Try again.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askerville Old Face"/>
              <a:ea typeface="Baskerville Old Face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191120" y="2743200"/>
            <a:ext cx="383832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4" dur="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5" dur="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19320" y="762120"/>
            <a:ext cx="647676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33cc"/>
                    </a:gs>
                    <a:gs pos="50000">
                      <a:srgbClr val="00ff00"/>
                    </a:gs>
                    <a:gs pos="100000">
                      <a:srgbClr val="0033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Kristen ITC"/>
              </a:rPr>
              <a:t>Thank You.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33cc"/>
                  </a:gs>
                  <a:gs pos="50000">
                    <a:srgbClr val="00ff00"/>
                  </a:gs>
                  <a:gs pos="100000">
                    <a:srgbClr val="0033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33cc"/>
                    </a:gs>
                    <a:gs pos="50000">
                      <a:srgbClr val="00ff00"/>
                    </a:gs>
                    <a:gs pos="100000">
                      <a:srgbClr val="0033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Kristen ITC"/>
              </a:rPr>
              <a:t>Please Come Again.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33cc"/>
                  </a:gs>
                  <a:gs pos="50000">
                    <a:srgbClr val="00ff00"/>
                  </a:gs>
                  <a:gs pos="100000">
                    <a:srgbClr val="0033cc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Kristen ITC"/>
              <a:ea typeface="Kristen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4:13:32Z</dcterms:created>
  <dc:creator>CGB</dc:creator>
  <dc:description/>
  <dc:language>en-US</dc:language>
  <cp:lastModifiedBy>CGB</cp:lastModifiedBy>
  <dcterms:modified xsi:type="dcterms:W3CDTF">2008-06-03T13:48:00Z</dcterms:modified>
  <cp:revision>10</cp:revision>
  <dc:subject/>
  <dc:title>Slide 1</dc:title>
</cp:coreProperties>
</file>